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7C4-D629-44A0-ADD2-6962F69E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E51-9A70-4403-8BB2-69F0F32F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26E-BC35-4025-BE97-84BB96D7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96E-585B-4769-90F1-768C4E15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049E-21EA-4DFF-9A56-9034B5E3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EA6-74FE-4A1D-9C82-1CAC4467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70D7-68C5-4731-A645-81F6E790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FABC-8441-4F81-85D6-1BF6B656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0C7A-D495-48EE-848A-6EEDA2E8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20B3-50CA-4183-9453-89C13B8E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07FE-27E8-407C-8138-4C8B3B55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B54-C060-4775-80F8-BFC952B5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21CA-DFC2-4320-B278-EE33D12A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57E9-FC65-46E7-A35E-041A970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B5F5-56A8-432D-B679-47ECE267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C0CD-47F8-46DD-A9AC-3EA2FF1A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08A8-3D44-4039-B811-05E14085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8033-9302-4A1E-BC23-AA7D3E71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A212-46A2-4F3D-841C-1840F706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05B6-02C1-4148-A8B9-4770E3D5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F596D-8BCA-4FC6-80D6-5CAF2567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48A6-5D3B-459D-8856-C0B4C90E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C37-79F4-4F7B-B729-58071BA5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70F2-F805-4F1E-9EED-8421288F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407D-C729-48E2-AA89-5D3A4C93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A1D1-E88E-418B-ACF5-39E34E84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8AAB-663C-45B6-BA00-27656ACF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25FA-19A7-4A7E-9907-D85C6143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AE96-CF92-492D-AB26-39AE6177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C78EF-62A2-4AD7-92AD-398E6652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B252-9D7F-4EC5-B0CA-401C2619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E7CB-B982-474C-B1D9-28F27D85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5875-D896-465C-B87E-A2F3A837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2BD-DE3D-4297-8BB6-FA589DAC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353FF-C37A-4D9B-85B3-70F514DD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53D1-0F24-4E44-BBD2-2B302EAB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C051-4D05-40B5-BA6C-F3B924BE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A48D-02B1-44B3-BCDD-BC885500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BAF6-D90D-4D52-AB00-9B7DDF78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2AC4-5402-4031-8FC7-4B7C99CB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9D58-EFA3-4354-A9B5-28699FA2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FD391-F553-4A76-BD1C-1637F98E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2430B-91A6-488D-8992-C460AA79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D6992-567B-4624-82E9-C5DE9AE0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316-1638-4745-9A32-EC4E114A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F39E-964B-47F4-B6E4-7D5202D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5282-AD62-4859-80CE-E3C6720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00029-6D69-4882-9509-FEC5CDAB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7DE0C-8220-4492-931A-5EED929D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7FDBD-3910-42FA-A97B-F6E057F9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45E6C-D594-4D07-83BB-1BA30CD5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BAD08-11A2-4C9C-8AC0-EDF6ABE6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115CF-1417-4AEE-9A6E-DE04D493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82CB1-A7FE-4613-92CD-0C8B371F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A3657-6782-48E0-9E06-210365B2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A46-1D52-444F-9D26-C7728D07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179C-09AD-4CE9-AB39-0B826C2D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74DE-BAF7-4B20-9D3C-F0F6BBA5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7B872-4377-48B0-93BD-4CBF174A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1DF8-81F1-498A-B946-5E667792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9328C-93E4-472A-8BF9-631A4414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B109-67A2-4361-A9F9-64FE0055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3F302-8F07-49EB-B159-B077A336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BA670-7665-417C-AA51-BFA59C34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C616E-3BD3-40D3-889D-48A2E3BE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E1616-3595-491C-8FE2-14EF1D9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062-1422-47F9-AB4D-21E713A8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0F63D-8A6C-43F0-ACCD-4C3A128F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8FE51-8F50-446E-ACF7-9293F1B8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FC785-5CC4-4878-AEC2-F7104761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739-D868-4A66-860B-E436FEB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6A4-C1B7-4D77-A89C-C8401A1B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7C6052-FBB3-497B-AA33-BD44536DC97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364A2E-9A40-4D77-8D4B-16B08707F12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FE6605-C1FD-4E75-879C-646113C9285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FA5329-BB9F-44E2-8394-91E4A413116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24735A-DFF8-4838-82CE-7AD3B72340A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33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C5AF72-3CCD-4EFC-9DAB-9944F469EF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44;&#1077;&#1085;&#1100;_&#1101;&#1090;&#1085;&#1086;&#1075;&#1088;&#1072;&#1092;&#1072;" TargetMode="External"/><Relationship Id="rId3" Type="http://schemas.openxmlformats.org/officeDocument/2006/relationships/hyperlink" Target="http://ru.wikipedia.org/wiki/&#1044;&#1077;&#1085;&#1100;_&#1101;&#1090;&#1085;&#1086;&#1075;&#1088;&#1072;&#1092;&#1072;" TargetMode="External"/><Relationship Id="rId4" Type="http://schemas.openxmlformats.org/officeDocument/2006/relationships/hyperlink" Target="http://ru.wikipedia.org/wiki/&#1044;&#1077;&#1085;&#1100;_&#1101;&#1090;&#1085;&#1086;&#1075;&#1088;&#1072;&#1092;&#1072;" TargetMode="Externa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7088400" cy="17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49" strike="noStrike">
                <a:solidFill>
                  <a:schemeClr val="accent2"/>
                </a:solidFill>
                <a:latin typeface="Calibri"/>
              </a:rPr>
              <a:t>Работу виконав учень  2(6)-А кл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49" strike="noStrike">
                <a:solidFill>
                  <a:schemeClr val="accent2"/>
                </a:solidFill>
                <a:latin typeface="Calibri"/>
              </a:rPr>
              <a:t>Васютинський Іл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5786280" y="214200"/>
            <a:ext cx="3109320" cy="844200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428760" y="785880"/>
            <a:ext cx="535752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vi-VN" sz="4800" spc="-1" strike="noStrike">
                <a:solidFill>
                  <a:srgbClr val="5d5d5d"/>
                </a:solidFill>
                <a:latin typeface="Calibri"/>
              </a:rPr>
              <a:t>Міклу́хо-Макла́й </a:t>
            </a:r>
            <a:br>
              <a:rPr sz="4800"/>
            </a:br>
            <a:r>
              <a:rPr b="1" lang="ru-RU" sz="4800" spc="-1" strike="noStrike">
                <a:solidFill>
                  <a:srgbClr val="5d5d5d"/>
                </a:solidFill>
                <a:latin typeface="Calibri"/>
              </a:rPr>
              <a:t> </a:t>
            </a:r>
            <a:r>
              <a:rPr b="1" lang="vi-VN" sz="4800" spc="-1" strike="noStrike">
                <a:solidFill>
                  <a:srgbClr val="5d5d5d"/>
                </a:solidFill>
                <a:latin typeface="Calibri"/>
              </a:rPr>
              <a:t>М</a:t>
            </a:r>
            <a:r>
              <a:rPr b="1" lang="uk-UA" sz="4800" spc="-1" strike="noStrike">
                <a:solidFill>
                  <a:srgbClr val="5d5d5d"/>
                </a:solidFill>
                <a:latin typeface="Calibri"/>
              </a:rPr>
              <a:t>икола Миколайо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8"/>
          <p:cNvSpPr/>
          <p:nvPr/>
        </p:nvSpPr>
        <p:spPr>
          <a:xfrm>
            <a:off x="642960" y="1214280"/>
            <a:ext cx="78483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сок Миклуха-Маклая в антропологію й етнографію був величезним. У своїх подорожах він зібрав безліч даних про народи Індонезії і Малайї, Філіппін, Австралії, Меланезії, Мікронезії і західної Полінезії. Він першим описав папуасів як визначений антропологічний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Микола Миколайович Міклу́хо-Макла́й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іограф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42098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Calibri"/>
              </a:rPr>
              <a:t>Микола Миколайович Міклу́хо-Макла́й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 (народився 17 липня (5 липня по старому стилю) 1846, Різдвяне, Новогородська губернія - помер 14 квітня (2 квітня по старому стилю) 1888, Санкт-Петербург) - етнограф, мандрівник, який вивчав корінне населення Південно-Східної Азії, Австралії й Океанії (1870-1880-і роки), у тому числі папуасів північно-східного берега Нової Гвінеї (Цей берег у російськомовній літературі називають Берег Міклухо-Маклая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icture 2"/>
          <p:cNvSpPr/>
          <p:nvPr/>
        </p:nvSpPr>
        <p:spPr>
          <a:xfrm>
            <a:off x="5572080" y="1428840"/>
            <a:ext cx="2857320" cy="47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76320" dir="7800819" dist="38073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contrasting">
              <a:rot lat="0" lon="0" rev="4200000"/>
            </a:lightRig>
          </a:scene3d>
          <a:sp3d prstMaterial="plastic">
            <a:bevelT prst="relaxedInset" w="381000" h="1143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428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Юні ро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28760" y="500040"/>
            <a:ext cx="4039920" cy="59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0000"/>
              </a:buClr>
              <a:buFont typeface="Arial"/>
              <a:buChar char="•"/>
            </a:pPr>
            <a:r>
              <a:rPr b="1" lang="uk-UA" sz="6400" spc="-1" strike="noStrike">
                <a:solidFill>
                  <a:srgbClr val="000000"/>
                </a:solidFill>
                <a:latin typeface="Calibri"/>
              </a:rPr>
              <a:t>Микола Миколайович Міклухо-Маклай народився в родині залізничного інженера. Родина мала потомствене дворянство, яке заслужив прадід Міклухо-Маклая - уродженець Чернігівщини, запорізький козак Степан Міклуха, що відрізнився при взятті Очакова (1788).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0000"/>
              </a:buClr>
              <a:buFont typeface="Arial"/>
              <a:buChar char="•"/>
            </a:pPr>
            <a:r>
              <a:rPr b="1" lang="uk-UA" sz="6400" spc="-1" strike="noStrike">
                <a:solidFill>
                  <a:srgbClr val="000000"/>
                </a:solidFill>
                <a:latin typeface="Calibri"/>
              </a:rPr>
              <a:t>Пізніше родина переїхала в Санкт-Петербург, де з 1858 Микола продовжив навчання в Другій Санкт-Петербурзькій гімназії.. Навчання не було довгим. У 1864, за участь у студентських сходках Міклухо-Маклая відчисляють з університету і він, на засоби зібрані студентським земляцтвом, їде в Німеччину.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281"/>
              </a:spcBef>
              <a:buClr>
                <a:srgbClr val="000000"/>
              </a:buClr>
              <a:buFont typeface="Arial"/>
              <a:buChar char="•"/>
            </a:pPr>
            <a:r>
              <a:rPr b="1" lang="uk-UA" sz="6400" spc="-1" strike="noStrike">
                <a:solidFill>
                  <a:srgbClr val="000000"/>
                </a:solidFill>
                <a:latin typeface="Calibri"/>
              </a:rPr>
              <a:t>У Німеччині він продовжує навчання в Гейдельберзькому університеті, де вивчає філософію. Через рік Міклухо-Маклай переводиться на медичний факультет Лейпцігського університету, а потім Йенського університету. Після закінчення університету в 1868, Міклухо-Маклай робить самостійну подорож по узбережжю Червоного моря, а потім, у 1869, повертається в Росію.</a:t>
            </a:r>
            <a:endParaRPr b="0" lang="ru-RU" sz="6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587120" y="2071800"/>
            <a:ext cx="4377240" cy="43812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новлення вченого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4200" y="642960"/>
            <a:ext cx="45734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1" lang="uk-UA" sz="1700" spc="-1" strike="noStrike">
                <a:solidFill>
                  <a:srgbClr val="000000"/>
                </a:solidFill>
                <a:latin typeface="Calibri"/>
              </a:rPr>
              <a:t>Кругозір молодого дослідника розширився і він перейшов до більш загальних питань природознавства - антропології, етнографії, географії. У цих областях Міклухо-Маклаю вдалося досягти визначних успіхів. Особливо цікавий його висновок про те, що культурні і расові ознаки різних народів обумовлені природним і соціальним середовищем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1" lang="uk-UA" sz="1700" spc="-1" strike="noStrike">
                <a:solidFill>
                  <a:srgbClr val="000000"/>
                </a:solidFill>
                <a:latin typeface="Calibri"/>
              </a:rPr>
              <a:t>Робить Міклухо-Маклай і чергову велику подорож. У 1870 році на військовому кораблі "Витязь" він відправляється в Нову Гвінею. Тут, на північно-східному березі цього острова, він проводить два роки за вивченням побуту, звичаїв, релігійних обрядів аборигенів (папуасів). Початі на Новій Гвінеї спостереження Міклухо-Маклай продовжує на Філіппінах, в Індонезії, на південно-західному березі Нової Гвінеї, на півострові Малакка й островах Океанії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5572080" y="1071720"/>
            <a:ext cx="3240000" cy="4442760"/>
          </a:xfrm>
          <a:prstGeom prst="rect">
            <a:avLst/>
          </a:prstGeom>
          <a:ln cap="sq" w="228600">
            <a:solidFill>
              <a:srgbClr val="000000"/>
            </a:solidFill>
            <a:miter/>
          </a:ln>
          <a:effectLst>
            <a:innerShdw blurRad="76200">
              <a:srgbClr val="000000"/>
            </a:innerShdw>
          </a:effectLst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85840" y="1357200"/>
            <a:ext cx="4173480" cy="52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У грудні 1872 р. за Миколою Миколайовичем прийшов кліпер «Смарагд», однак він не вирушив на батьківщину й здійснив плавання по Малайському архіпелагу. У червні 1876 р. мандрівник повернувся на Берег Маклая й провів у товаристві старих знайомих чотирнадцять із половиною місяців, а в липні 1878 р. він уже був у Сіднеї. Тут невтомний дослідник зайнявся організацією морської зоологічної станції.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  Після дванадцятирічних мандрівок Миклухо-Маклай по вернувся на батьківщину, але через кілька місяців знову відправився до Нової Гвінеї. Цього разу він привіз своїм друзям домашню худобу, матерію й насіння культурних рослин. Це була остання подорож ученого. Пам’ять про нього залишилася у живій мові населення Нової Гвінеї: папуаси дотепер говорять «сокира Маклая», «кавун Маклая»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icture 2"/>
          <p:cNvSpPr/>
          <p:nvPr/>
        </p:nvSpPr>
        <p:spPr>
          <a:xfrm>
            <a:off x="5020560" y="1428840"/>
            <a:ext cx="4123080" cy="396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28760" y="21420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нь народжения Миклухо-Маклая є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рофессійним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святом </a:t>
            </a:r>
            <a:r>
              <a:rPr b="1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етнографі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39640" y="1434960"/>
            <a:ext cx="38160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Кругозір молодого дослідника розширився, і він перейшов до більш загальних питань природознавства - антропології, етнографії, географії. У цих областях Міклухо-Маклаю вдалося досягти певних успіхів. Особливо цікавий його висновок про те, що культурні і расові ознаки різних народів обумовлені природним і соціальним середовищем. Також багато уваги він приділяв ідеї та практиці створення зоологічних станці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Прямоугольник 6"/>
          <p:cNvSpPr/>
          <p:nvPr/>
        </p:nvSpPr>
        <p:spPr>
          <a:xfrm>
            <a:off x="0" y="357120"/>
            <a:ext cx="91436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5d5d5d"/>
                </a:solidFill>
                <a:latin typeface="Calibri"/>
              </a:rPr>
              <a:t>Захоплення молодого дослід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Микола Миколайович Міклухо-Маклай"/>
          <p:cNvPicPr/>
          <p:nvPr/>
        </p:nvPicPr>
        <p:blipFill>
          <a:blip r:embed="rId1"/>
          <a:stretch/>
        </p:blipFill>
        <p:spPr>
          <a:xfrm>
            <a:off x="5000760" y="1500120"/>
            <a:ext cx="3809520" cy="457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43240" y="274680"/>
            <a:ext cx="45432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дорожі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571320"/>
            <a:ext cx="340020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1870—1880-х рр. Займався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ереважно дослідженнями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з антропології та етнографії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орінного населення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    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івденно-Східної Азії,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встралії та Океанії —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островів Полінезії,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еланезії і Мікронезії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 1879-1880 роках робить експедицію на острови Меланезії, зокрема на острів Нова Каледонія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 1882 році повертається до Росії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 1883 році  залишає Росію і повертається в Австралію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 1886 році учений знову 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овертається до Росії 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Карта подорожей М.М. Миклухо-Маклая"/>
          <p:cNvPicPr/>
          <p:nvPr/>
        </p:nvPicPr>
        <p:blipFill>
          <a:blip r:embed="rId1"/>
          <a:stretch/>
        </p:blipFill>
        <p:spPr>
          <a:xfrm>
            <a:off x="4143240" y="1785960"/>
            <a:ext cx="4381200" cy="339048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6"/>
          <p:cNvSpPr/>
          <p:nvPr/>
        </p:nvSpPr>
        <p:spPr>
          <a:xfrm>
            <a:off x="4000320" y="5643720"/>
            <a:ext cx="464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рта подорожей М.М. Миклухо-Макл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640" y="188640"/>
            <a:ext cx="822924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Труди Міклухо-Макла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icture 2"/>
          <p:cNvSpPr/>
          <p:nvPr/>
        </p:nvSpPr>
        <p:spPr>
          <a:xfrm>
            <a:off x="5572080" y="1785960"/>
            <a:ext cx="3096000" cy="37839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5286240" y="5786280"/>
            <a:ext cx="3517560" cy="5792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2920" y="785880"/>
            <a:ext cx="4928760" cy="60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Оселившись серед папуасів, Міклухо-Маклай старанно й наполегливо вивчав їх су­спільний лад, побут, звичаї, мову. Він довів, що всі люди, незалежно від місця їх проживання, кольору шкіри, волосся та ін., за своїми біологічними властивостями однакові. Отже, і «дикуни», як несправедливо називали буржуазні вчені деякі народи, здатні до гос­подарського й культурного розвитку.+ Міклухо-Маклай з огидою ставився до євро­пейських загарбників, які поневолювали цілі народи, гнобили їх, чинили над ними на­сильство. Міклухо-Маклай зібрав антро­пологічний і етнографічний матеріал, який спростовував лженауку про «нижчі» й «вищі» раси. Він довів, що народи всіх рас однаково можуть творити. Матеріали Міклухо-Маклая вщент розбили твердження буржуазних уче­них, особливо Джемса Гента, про психічну неповноцінність темношкірої раси. Багато зробив Микола Миколайович і щодо вивчення мови, матеріальної культури, по­буту, господарства папуасів та інших наро­дів Океанії. Автор близько 160 наукових праць. Був захисником колоніальних народів. Виступав проти расизму та колоніалізму.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00000" y="272880"/>
            <a:ext cx="4282560" cy="6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 знаєте ви, що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79640" y="332640"/>
            <a:ext cx="419616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 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у 1876 р. Миклухо-Маклай побував на островах Адміралтейства й на одному з Каролінських островів. Тут він звернув увагу на місцеві гроші, які називалися «фе». Вони являли собою «монети» у вигляді грубо обтесаних кам’яних дисків з отвором у центрі й важили до декількох тонн. Цікаво, що ці кам’яні «гроші» мають обмежене ходіння на острові Яп дотепер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Дружина Міклухо-Маклая і його діти, що повернулися після смерті вченого в Австралію, у знак великих заслуг ученого до 1917 одержували російську пенсію, яка виплачувалася з особистих коштів Олександра III, а потім Миколи II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Французький історик Моно назвав Міклухо-Маклая «одним з найкращих людей, які тіль­ки з’являлись будь-коли на нашій планеті»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icture 2"/>
          <p:cNvSpPr/>
          <p:nvPr/>
        </p:nvSpPr>
        <p:spPr>
          <a:xfrm>
            <a:off x="4643280" y="1143000"/>
            <a:ext cx="3763440" cy="4896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  <Words>569</Words>
  <Paragraphs>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0:32:31Z</dcterms:created>
  <dc:creator>ученик3</dc:creator>
  <dc:description/>
  <dc:language>en-US</dc:language>
  <cp:lastModifiedBy>777</cp:lastModifiedBy>
  <dcterms:modified xsi:type="dcterms:W3CDTF">2017-05-12T19:20:52Z</dcterms:modified>
  <cp:revision>25</cp:revision>
  <dc:subject/>
  <dc:title>Миклухо-Маклай, Николай Николаевич биограф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